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057F-7E5F-4414-B796-0541E9E2D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D163-7567-48B0-8631-2D550C3DE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E509-8F20-4FB8-AA4F-1F270E236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4BA8-4A12-46DB-B556-981E38DFC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2496-825E-4091-83A1-0813D7136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70BA-F232-4A21-95EA-6B1EEA59C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EA1A-F228-4AAB-8743-3A3A65EB5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72EF-7250-4FDA-AC86-B76095BA6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A5F0-70A2-467F-BC24-C6A7AB354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A408-60BC-4402-8F21-9092D86B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A780-026B-4EED-9733-6276F6A1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2BE0-65B3-4D26-9331-A5693C60B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1969C-6D4E-4AD6-B81F-D8FEB7B6B57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293"/>
                </a:solidFill>
                <a:latin typeface="Book Antiqua"/>
              </a:rPr>
              <a:t>Holocaust Review Game</a:t>
            </a:r>
            <a:endParaRPr b="0" lang="en-US" sz="54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53244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943600" y="121932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udy the ma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04560" y="38088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country had the highest Jewish death toll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 German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 Fr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 Ita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 Pol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495680" y="1295280"/>
            <a:ext cx="419112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" dur="1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5" dur="1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80880" y="457200"/>
            <a:ext cx="647712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is this boy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 Elie Wies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 Primo Lev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 Paul Steinbe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 Wladyslaw Szpilma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800600" y="685800"/>
            <a:ext cx="33163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" dur="1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9" dur="1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" dur="10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10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438280" y="304920"/>
            <a:ext cx="4800600" cy="33192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04920" y="3809880"/>
            <a:ext cx="84582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is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. A way to identify Ro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. A way to identify Je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. A way to identify homosexu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. A way to identify the physically disabl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6840" y="3352680"/>
            <a:ext cx="80010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was a Nazi party member, owned Deutsche Emaillewaren-Fabrik and saved over 1,000 Jews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. Victor Bod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. Karl Plag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. Oskar Schindl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. Raoul Wallenbe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2359080" cy="2876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733920" y="304920"/>
            <a:ext cx="1904760" cy="28954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6172200" y="228600"/>
            <a:ext cx="22845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28600" y="456840"/>
            <a:ext cx="41148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Mordechai Rumkowski, leader of the Jewish administrative group in the Lodz Ghetto. What were these groups in every ghetto call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. Judenle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. Judengrup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. Judenr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. Judenregieru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495680" y="228600"/>
            <a:ext cx="449604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52280" y="380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name did the Nazis add to every male Jew’s name in 1938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 Isra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 Yizha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 Isaa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 Jose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586728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533160"/>
            <a:ext cx="854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Nazi answer to the "Jewish question in Europe" reached at Wannsee in 1942 was called………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2286000"/>
            <a:ext cx="56390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The Final S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The Final Pl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The Final Elim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 The Final Answ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952880" y="1600200"/>
            <a:ext cx="350856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457200"/>
            <a:ext cx="670536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of the Nazi concentration and extermination camps were located in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. Western Euro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. Southern Euro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. The French-German Bor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. Eastern Germa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581280" y="1676520"/>
            <a:ext cx="525780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24080" y="228600"/>
            <a:ext cx="5715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ich three were extermination camp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. Buchenwald, Treblinka, Auschwit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. Sobibor, Treblinka, Auschwit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. Dachau, Treblinka, Auschwit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. Drancy, Treblinka, Auschwitz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3657600"/>
            <a:ext cx="3276720" cy="2940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038480" y="3581280"/>
            <a:ext cx="449604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1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is this ma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 Joseph Goebb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 Herman Go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 Josef Menge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 Reinhard Heydri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724280" y="609480"/>
            <a:ext cx="37195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" dur="10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30T23:18:28Z</dcterms:created>
  <dc:creator>Student</dc:creator>
  <dc:description/>
  <dc:language>en-US</dc:language>
  <cp:lastModifiedBy>Student</cp:lastModifiedBy>
  <dcterms:modified xsi:type="dcterms:W3CDTF">2008-05-01T04:00:34Z</dcterms:modified>
  <cp:revision>3</cp:revision>
  <dc:subject/>
  <dc:title>Holocaust Review Game</dc:title>
</cp:coreProperties>
</file>